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2C31-1518-4E36-BDCB-F518D085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DDEA-B8DE-4E2F-B353-D5CC6ED2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7EB0-E544-4DBC-A6FE-5BCE5682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82F0-98B1-45C2-B5B3-D3E29DDE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1F50-4B13-4F50-B79E-A5C8171F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5894-461D-4BEE-8CF1-D88876E4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955A-A365-451F-927A-6965C79C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90CC-F5B5-4CE2-B3F8-64FFDD83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9984-9F8C-43B1-B34B-F8091ECA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856E-B1F7-4357-AB72-B72CA0F2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7876-A370-4141-89AE-B50938BD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BBF2-14CB-4A03-B598-72090305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B152-07BD-42F8-8359-9F2CE9D14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18 Len lístie m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lístie máš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ie vážny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žiali Spasiteľ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málo si ma milov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málo pre mňa pracov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ím čas si vypĺňal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lístie máš, len lístie máš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lístie má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krásny vzhľa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je však ovoc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 milosti čas zanedbá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márnotratne premrh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v súdu deň mi dáš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Len lístie máš, len lístie máš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lístie máš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ak rád ťa m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ádej chcem ti dať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úž svojim blížnym ochot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o stálou láskou, nezišt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život zasväť m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ovocie mi odovzdáš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12:00:44Z</dcterms:modified>
  <cp:revision>21</cp:revision>
  <dc:subject/>
  <dc:title>Je veľký náš Pán, on slávy je Kráľ Nech do všetkých strán  spev vrúcnych znie chvál.</dc:title>
</cp:coreProperties>
</file>